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F4C2-7FA0-42B4-BF2D-FAE4E63A3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3D3B-D65B-431A-9DEA-82680B6BEC4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7423-A877-44F2-9F5B-D9C72225C70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16D1-5113-4EB7-BBAE-2C8394229117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2C86-A02C-467B-8AE4-F013D10A187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A5F2-13AE-4A84-BEE3-FD26F36DBF4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4602-2C95-4D0C-A353-F581FF4B471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0CA5-BB78-437C-B5F1-90CD9C711C1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3A59-F5A3-4C21-877B-C25C49A3402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599-23A3-4017-8A10-EA07ECCEE79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B6C2-6C57-4173-B6F5-73BA303B0C13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ECE6-B69E-411C-AEF6-A144370465C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26FB-1256-442E-892F-E86BDDA1562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9D8B-EC61-425B-A99C-A64C53AF7801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2A5C-FC83-446E-944F-397806A20344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108C-463B-43E9-A979-336FA49686B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31F9-BE30-44E4-B30A-655B81B53FA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E152-A9CC-485C-ABF9-F0CC3049B6C2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1D2B-D362-4343-956D-D295938E131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E1A-4065-491C-8742-7D80B0CA4FE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0C68-3FDF-41D8-8F9C-FD423B5410D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2413-92B1-4B1F-A032-42D8A6CC93E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B261-3EF4-4BA2-A8FE-81A2C70FDC2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65E6-CAF0-453F-A80F-884D55368769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49AC-4D21-43F1-81BB-84E98AD29C30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034-E37D-4B03-A12E-76004794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CF0-B69F-43B3-9E7A-EE999C40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EF5E-B1CA-4606-8079-E49101EF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9F7-AA27-4CD6-81D1-0F9B5883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1512-DC5C-47B3-8C08-7A73EC4D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1A15-A6FA-4AC7-98C9-B3D3CFA2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039D-5F0B-4C87-B653-81C9FEE4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B53-2381-42B3-A708-A2436A81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2257-D3B9-439F-B3B9-B41327C6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E6E3-F0F5-4756-9BEF-9AE4E18C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8667-DD38-49C8-82ED-25CF0952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D4E-D5D1-4F15-A751-D3C2AC66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5C4D-3F44-4737-B3CD-43CBDB74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418C-30FB-4F22-B448-DCF73C52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4979-4DD1-45EC-A5B4-6C90510F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69A8-6F1C-4CDD-9423-EF31E2C0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45EE-09A9-4383-A1C6-124628A9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9B304-3B6B-404A-9FBA-19A80C1BA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8885B-130A-4B2E-A6A2-F31A3C6F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4A0E1-9F3C-4EE5-ACF4-9C836F09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5FB3E-5817-4B1C-909A-16C25093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038BE-C74A-44C4-BC89-5B0ABEF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B02-6B9F-4644-975A-42071EA3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2251-9A2B-4FFA-8D6A-96DF1135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9AF56-6712-4C8F-BF90-7F2216D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D6BF8-ECE0-4FB2-B870-9D7F0BB9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22660-39F1-4168-B25C-7BDCBA63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C489-9D13-47AB-B859-CE0E2961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03B7C-B472-41BD-955E-1BA1AD8C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11031-A12B-4E3C-AA00-5D912EDF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23195-285F-4E71-810C-BA1D886D9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6C69-5898-4BF9-BD17-17E5C5B0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5F32-51BC-4057-9272-AA02CF60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85B-369D-44AB-BC6C-B60002AC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B57F-A28A-4CDE-A705-24F7B2AC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C969C-5244-40EC-98A3-6EC15627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27AD5-29F0-4264-A87F-D67B6A38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F578-F5C4-477F-8076-A98A39C9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6B6E-B715-484E-A8D4-DB0CE63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FE5EC-9CB3-46CC-A59B-683913CD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EB1FF-4463-452B-9143-AABDD1C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CEE10-750B-4823-B265-529E868C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22F58-BAD3-4355-89A7-D9777DB6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971C-8BB5-4B7D-8EDD-D36C85F7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D32-E200-45CF-AB7A-AA6BE9CA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8F9A-A5B2-471A-A943-761E5977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8B4C-A7CB-47E8-B74E-3CB64D94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CCE0-1DCC-46E9-B00E-39A13161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1C4-6E97-424D-9047-0674E7622DB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943F-1EDC-44FB-BD21-CBA53CFCCA8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9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1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1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2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B7C4-FB16-40E4-AEC1-011AFAF7949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8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0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1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6C59-F1FB-48AF-A85F-C30819D93E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cponline.org/journals/annals/15feb97/melanoma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pansa.gov.au/images/nir/spectru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hapter 26:  Ozone Depletion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ase Study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pidemic Skin Cancer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9" name="Picture 5" descr="melano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1981080"/>
            <a:ext cx="6518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Anthropogenic Ozone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nlight can break and release Cl and then it may rebind again, over and ov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Catalytic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e lag effec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FCs are verrrrrrrry stable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re are no tropospheric sink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nlight does not break it here! (transparen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in doesn’t phase it! (insolubl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xidation can’t touch it! (non-reactiv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ere is ozone being los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the Antarctic (big time!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the Arctic, but less s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northern hemi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ver southern hemi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ere is there the most ozone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st is made over the equator due to high intensity sunligh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Yet it is thinnest there and thickest at the pol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mmmmmmmmmmm….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hy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tarctic Ozone Hol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ccurs during the spring in polar stratospheric clou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nges from 15 – 80 % loss (over 80% depleted for 8 weeks in 1995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rea of depletion is spreading out (from a million sq. miles in 1970 to 22 million sq. miles toda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lar winter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looses heat and sink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’s dark 6 months ,so no incoming radiation to add new he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is isolated from global circulation and circulates around po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s is called the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polar vortex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inter stratospheric clouds are essential for ozone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 temps. slowly drop, sulfuric acid freezes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eds nitric acid to form around frozen particl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alled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ype 1 stratospheric clou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s temp rapidly drops further water condenses around Type 1 particles making them larg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se are </a:t>
            </a: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ype 2 stratospheric clou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w you can see them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th both cloud types,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2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s tied up as nitric acid, freezes out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se particles grow large enough to fall out of atm, removing most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rom cloud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 NO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Verdana"/>
              </a:rPr>
              <a:t>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= no chlorine (chlorine nitrate) sink in springtime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tarctic spring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nlight retur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eaks apart CFCs, freeing chlori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 N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in clouds so no chlorine sin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ts free to destroy ozon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2" name="Picture 5" descr="a07"/>
          <p:cNvPicPr/>
          <p:nvPr/>
        </p:nvPicPr>
        <p:blipFill>
          <a:blip r:embed="rId1"/>
          <a:stretch/>
        </p:blipFill>
        <p:spPr>
          <a:xfrm>
            <a:off x="4572000" y="144792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7"/>
          <p:cNvSpPr/>
          <p:nvPr/>
        </p:nvSpPr>
        <p:spPr>
          <a:xfrm>
            <a:off x="6248520" y="2514600"/>
            <a:ext cx="2895480" cy="1371600"/>
          </a:xfrm>
          <a:prstGeom prst="wedgeEllipseCallout">
            <a:avLst>
              <a:gd name="adj1" fmla="val -59541"/>
              <a:gd name="adj2" fmla="val -52199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6994440" y="2859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t’s spring!!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 Radia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71" name="Picture 6" descr="spectr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1.  Need super cold isolated air vortex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(polar winter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2.  Need PSCs (ozone destroying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actions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appen on their surface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.  NOx freeze and drop ou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4.  On the surfaces, inactive Cl and Br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mplexes convert into highly active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5.  When sunlight returns in spring ozone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oss is very rapid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Future of Ozone Deplet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illions of metric tons of CFCs are in lower atm now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ay take as much as 50 years or so to get to stratospher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y last 75 - 140 yea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 it will probably get worse before it gets better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Ozone Depletion: Effects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ossible reduction in phytoplankton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y effect oceanic food cha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ess fish for human consumptio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ay also increase global warming (phytoplankton are an important C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sink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lobal warming may affect our food crops negatively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ealth effec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Increase in skin cancer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Damage ey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eaken  immune system which may have a multitude of effect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Manage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Montreal Protocol in 1987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46 countries have signe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gree to reduce CFC  us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industrial ones stopped by 199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adline for developing countries is 2005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hina and India chose not to particip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ubstitut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FC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CFC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Propane (cheap but potentially explosive?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385 billion dollar cost to replace old refrigerating equipment that cannot use alternative chemica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Other Ideas: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C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hortest waveleng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 energet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reaks O2 into O and O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 and O2 combine to form O3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trongly absorbed in stratosphere by ozo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none reaches surface of Eart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4" name="Picture 6" descr="radiation_i1"/>
          <p:cNvPicPr/>
          <p:nvPr/>
        </p:nvPicPr>
        <p:blipFill>
          <a:blip r:embed="rId1"/>
          <a:stretch/>
        </p:blipFill>
        <p:spPr>
          <a:xfrm>
            <a:off x="7086600" y="2286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fig1-01"/>
          <p:cNvPicPr/>
          <p:nvPr/>
        </p:nvPicPr>
        <p:blipFill>
          <a:blip r:embed="rId2"/>
          <a:stretch/>
        </p:blipFill>
        <p:spPr>
          <a:xfrm>
            <a:off x="4495680" y="1447920"/>
            <a:ext cx="4496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UVB and UVA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Verdana"/>
              </a:rPr>
              <a:t>UVB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airly energetic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cause cell damag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trongly absorbed b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laye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Verdana"/>
              </a:rPr>
              <a:t>UVA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ongest wavelength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n cause cell damage, penetrates into deeper layers of skin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Ozone does not absorb it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aches surface of Earth easily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5" descr="ozoneimg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y is ozone being depleted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zone measured in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obson units ( DU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1 = 1 ppm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rst measured in 1920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Box 6"/>
          <p:cNvSpPr/>
          <p:nvPr/>
        </p:nvSpPr>
        <p:spPr>
          <a:xfrm>
            <a:off x="4419720" y="1523880"/>
            <a:ext cx="4267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FCs are the main culpr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nder molecu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in 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5" name="Picture 5" descr="04b"/>
          <p:cNvPicPr/>
          <p:nvPr/>
        </p:nvPicPr>
        <p:blipFill>
          <a:blip r:embed="rId1"/>
          <a:stretch/>
        </p:blipFill>
        <p:spPr>
          <a:xfrm>
            <a:off x="1600200" y="8380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6"/>
          <p:cNvSpPr/>
          <p:nvPr/>
        </p:nvSpPr>
        <p:spPr>
          <a:xfrm>
            <a:off x="0" y="685800"/>
            <a:ext cx="2514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FC hit by U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hlorine splits of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t ruthlessly attacks an innocent ozon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Temporarily forms chlorine monoxi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roken up by a free O and the evil chlorine is free to destroy more ozone (up to 100,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049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appens over and over and over again =  a catalytic chain reaction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88" name="Picture 9" descr="invader2"/>
          <p:cNvPicPr/>
          <p:nvPr/>
        </p:nvPicPr>
        <p:blipFill>
          <a:blip r:embed="rId1"/>
          <a:stretch/>
        </p:blipFill>
        <p:spPr>
          <a:xfrm>
            <a:off x="2514600" y="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Natural Ozone Formation and Destruction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29:53Z</dcterms:created>
  <dc:creator>tosborne</dc:creator>
  <dc:description/>
  <dc:language>en-US</dc:language>
  <cp:lastModifiedBy>tosborne</cp:lastModifiedBy>
  <dcterms:modified xsi:type="dcterms:W3CDTF">2012-03-19T23:45:14Z</dcterms:modified>
  <cp:revision>20</cp:revision>
  <dc:subject/>
  <dc:title>Ozone Depletion</dc:title>
</cp:coreProperties>
</file>